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27.jpeg" ContentType="image/jpeg"/>
  <Override PartName="/ppt/media/image16.wmf" ContentType="image/x-wmf"/>
  <Override PartName="/ppt/media/image4.jpeg" ContentType="image/jpeg"/>
  <Override PartName="/ppt/media/image24.jpeg" ContentType="image/jpeg"/>
  <Override PartName="/ppt/media/image19.jpeg" ContentType="image/jpeg"/>
  <Override PartName="/ppt/media/image22.wmf" ContentType="image/x-wmf"/>
  <Override PartName="/ppt/media/image21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DB4-4618-404A-8028-E03C7900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F7A-FAEA-44F5-AD58-C7C974A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3BD-D569-4A61-85E7-4194F524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DF6-EC58-42A3-8DC7-01A5367B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BBDC-BFDB-462F-A0F1-57506B38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012F-60F0-4C50-8E91-310833D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1B69-0C44-4234-9689-696E989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71D8-C3F6-480E-A16E-3FB986A2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196-E363-4AFD-99C3-AD45178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2C5-BFD2-4616-BC20-EDDF863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0C0E-845D-44C5-9910-3CAD64B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B49-646A-4DBF-AB18-5D11CCD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F14-C652-40E9-84AC-46F88BA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BE28-8F83-49E0-B064-75CAA24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C800-5CB3-4562-9853-8D39410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5D2-C411-4EE0-8E4D-426A1450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0FED-2C43-484E-A58D-BE634973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DA9-7661-4ADB-A93D-7DEC1A9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D5B-BB8C-4AC8-932F-716A74B1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0CE-D7F3-4F4B-8769-BC889D1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411-FE6A-4076-9F3D-078EDDB7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503-452E-4985-94BB-87ADD36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DE0-97EC-468F-A4FF-24D35D7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502-BA73-4E10-AE1F-2859752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2ACA407F-3156-42BD-8970-31A344A4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9051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D2E17AAC-B189-499E-AA53-7A19DC7DC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0" algn="ctr"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1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271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89080" y="1433520"/>
            <a:ext cx="7620120" cy="5850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46680" y="16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O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M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84160" y="1509840"/>
            <a:ext cx="82296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Process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600" y="1662120"/>
            <a:ext cx="90676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27160" y="1357200"/>
            <a:ext cx="558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84160" y="1433520"/>
            <a:ext cx="4859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18280" y="1814400"/>
            <a:ext cx="3171960" cy="5062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874880" y="4786200"/>
            <a:ext cx="3645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89080" y="1433520"/>
            <a:ext cx="76960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4160" y="1433520"/>
            <a:ext cx="85345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Col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08200" y="1814400"/>
            <a:ext cx="86868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Col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3280" y="12812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84360" y="1281240"/>
            <a:ext cx="44499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et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51600" y="1662120"/>
            <a:ext cx="4559040" cy="5334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03280" y="1662120"/>
            <a:ext cx="44053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94000" y="1052640"/>
            <a:ext cx="71992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69960" y="1446120"/>
            <a:ext cx="67820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7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3.5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not felt, but reco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-5.4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elt, but rarely causes da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6.0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ost slight damage to well-desig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1-6.9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structive in areas up to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kilometer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0-7.9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arthquake. Can cause seri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over larger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or greater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earthquake. Can cause seri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in areas several hund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ometer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rth’s Inter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17680" y="1276200"/>
            <a:ext cx="6934320" cy="6177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69960" y="135720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8-64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d &amp; frag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anite and Bas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9960" y="28051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8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ot &amp; mo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gnesium and Sil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69960" y="4253040"/>
            <a:ext cx="176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0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 - 4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quid Nickel and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69960" y="57769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4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 - 6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ckel and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13640" y="633240"/>
            <a:ext cx="16002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3640" y="785880"/>
            <a:ext cx="1600200" cy="57132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0"/>
                </a:moveTo>
                <a:cubicBezTo>
                  <a:pt x="420" y="105"/>
                  <a:pt x="840" y="210"/>
                  <a:pt x="1260" y="360"/>
                </a:cubicBezTo>
                <a:cubicBezTo>
                  <a:pt x="1680" y="510"/>
                  <a:pt x="2100" y="705"/>
                  <a:pt x="2520" y="9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5640" y="1128600"/>
            <a:ext cx="1304640" cy="571680"/>
          </a:xfrm>
          <a:custGeom>
            <a:avLst/>
            <a:gdLst/>
            <a:ahLst/>
            <a:rect l="l" t="t" r="r" b="b"/>
            <a:pathLst>
              <a:path w="2055" h="900">
                <a:moveTo>
                  <a:pt x="2055" y="885"/>
                </a:moveTo>
                <a:cubicBezTo>
                  <a:pt x="1998" y="799"/>
                  <a:pt x="1922" y="739"/>
                  <a:pt x="1845" y="675"/>
                </a:cubicBezTo>
                <a:cubicBezTo>
                  <a:pt x="1770" y="613"/>
                  <a:pt x="1834" y="641"/>
                  <a:pt x="1755" y="615"/>
                </a:cubicBezTo>
                <a:cubicBezTo>
                  <a:pt x="1707" y="567"/>
                  <a:pt x="1716" y="566"/>
                  <a:pt x="1650" y="540"/>
                </a:cubicBezTo>
                <a:cubicBezTo>
                  <a:pt x="1621" y="528"/>
                  <a:pt x="1586" y="528"/>
                  <a:pt x="1560" y="510"/>
                </a:cubicBezTo>
                <a:cubicBezTo>
                  <a:pt x="1498" y="469"/>
                  <a:pt x="1532" y="484"/>
                  <a:pt x="1455" y="465"/>
                </a:cubicBezTo>
                <a:cubicBezTo>
                  <a:pt x="1440" y="450"/>
                  <a:pt x="1420" y="439"/>
                  <a:pt x="1410" y="420"/>
                </a:cubicBezTo>
                <a:cubicBezTo>
                  <a:pt x="1373" y="353"/>
                  <a:pt x="1398" y="333"/>
                  <a:pt x="1350" y="285"/>
                </a:cubicBezTo>
                <a:cubicBezTo>
                  <a:pt x="1314" y="249"/>
                  <a:pt x="1280" y="247"/>
                  <a:pt x="1230" y="240"/>
                </a:cubicBezTo>
                <a:cubicBezTo>
                  <a:pt x="1115" y="225"/>
                  <a:pt x="1000" y="209"/>
                  <a:pt x="885" y="195"/>
                </a:cubicBezTo>
                <a:cubicBezTo>
                  <a:pt x="706" y="135"/>
                  <a:pt x="524" y="90"/>
                  <a:pt x="345" y="30"/>
                </a:cubicBezTo>
                <a:cubicBezTo>
                  <a:pt x="306" y="17"/>
                  <a:pt x="264" y="13"/>
                  <a:pt x="225" y="0"/>
                </a:cubicBezTo>
                <a:cubicBezTo>
                  <a:pt x="103" y="14"/>
                  <a:pt x="65" y="7"/>
                  <a:pt x="0" y="105"/>
                </a:cubicBezTo>
                <a:cubicBezTo>
                  <a:pt x="5" y="140"/>
                  <a:pt x="8" y="175"/>
                  <a:pt x="15" y="210"/>
                </a:cubicBezTo>
                <a:cubicBezTo>
                  <a:pt x="18" y="226"/>
                  <a:pt x="17" y="246"/>
                  <a:pt x="30" y="255"/>
                </a:cubicBezTo>
                <a:cubicBezTo>
                  <a:pt x="56" y="273"/>
                  <a:pt x="90" y="275"/>
                  <a:pt x="120" y="285"/>
                </a:cubicBezTo>
                <a:cubicBezTo>
                  <a:pt x="135" y="290"/>
                  <a:pt x="165" y="300"/>
                  <a:pt x="165" y="300"/>
                </a:cubicBezTo>
                <a:cubicBezTo>
                  <a:pt x="228" y="363"/>
                  <a:pt x="272" y="441"/>
                  <a:pt x="300" y="525"/>
                </a:cubicBezTo>
                <a:cubicBezTo>
                  <a:pt x="285" y="644"/>
                  <a:pt x="287" y="658"/>
                  <a:pt x="210" y="735"/>
                </a:cubicBezTo>
                <a:cubicBezTo>
                  <a:pt x="205" y="750"/>
                  <a:pt x="198" y="764"/>
                  <a:pt x="195" y="780"/>
                </a:cubicBezTo>
                <a:cubicBezTo>
                  <a:pt x="188" y="820"/>
                  <a:pt x="180" y="900"/>
                  <a:pt x="180" y="90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2160" y="7858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84960" y="135720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27760" y="9000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61280" y="18144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46680" y="7477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52000" y="7477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99160" y="976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99360" y="900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2160" y="1585800"/>
            <a:ext cx="114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6880" y="128124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370560" y="67140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675480" y="16621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51800" y="16617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70560" y="1661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ck Cyc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51000" y="1509840"/>
            <a:ext cx="9524880" cy="5383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064040" y="1890720"/>
            <a:ext cx="1620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6200" y="3948120"/>
            <a:ext cx="198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11560" y="6195960"/>
            <a:ext cx="270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" y="4176720"/>
            <a:ext cx="288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23200" y="2500200"/>
            <a:ext cx="198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ls and h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80400" y="5472000"/>
            <a:ext cx="198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s, erodes, and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8200" y="5548320"/>
            <a:ext cx="1981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 or h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17680" y="2500200"/>
            <a:ext cx="198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s and m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98360" y="3262320"/>
          <a:ext cx="9742680" cy="27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3262320"/>
                    <a:ext cx="97426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041080" y="2988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lc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56360" y="4443480"/>
            <a:ext cx="2057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36800" y="505296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en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52434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56360" y="4481640"/>
            <a:ext cx="76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37200" y="3414600"/>
            <a:ext cx="2133360" cy="2362320"/>
          </a:xfrm>
          <a:custGeom>
            <a:avLst/>
            <a:gdLst/>
            <a:ahLst/>
            <a:rect l="l" t="t" r="r" b="b"/>
            <a:pathLst>
              <a:path w="1344" h="1488">
                <a:moveTo>
                  <a:pt x="288" y="1488"/>
                </a:moveTo>
                <a:lnTo>
                  <a:pt x="576" y="1008"/>
                </a:lnTo>
                <a:lnTo>
                  <a:pt x="672" y="960"/>
                </a:lnTo>
                <a:lnTo>
                  <a:pt x="960" y="1008"/>
                </a:lnTo>
                <a:lnTo>
                  <a:pt x="1248" y="1056"/>
                </a:lnTo>
                <a:lnTo>
                  <a:pt x="1296" y="960"/>
                </a:lnTo>
                <a:lnTo>
                  <a:pt x="912" y="912"/>
                </a:lnTo>
                <a:lnTo>
                  <a:pt x="768" y="912"/>
                </a:lnTo>
                <a:lnTo>
                  <a:pt x="624" y="864"/>
                </a:lnTo>
                <a:lnTo>
                  <a:pt x="624" y="768"/>
                </a:lnTo>
                <a:lnTo>
                  <a:pt x="768" y="480"/>
                </a:lnTo>
                <a:lnTo>
                  <a:pt x="816" y="480"/>
                </a:lnTo>
                <a:lnTo>
                  <a:pt x="1008" y="480"/>
                </a:lnTo>
                <a:lnTo>
                  <a:pt x="1056" y="480"/>
                </a:lnTo>
                <a:lnTo>
                  <a:pt x="1344" y="528"/>
                </a:lnTo>
                <a:lnTo>
                  <a:pt x="1344" y="432"/>
                </a:lnTo>
                <a:lnTo>
                  <a:pt x="960" y="432"/>
                </a:lnTo>
                <a:lnTo>
                  <a:pt x="960" y="384"/>
                </a:lnTo>
                <a:lnTo>
                  <a:pt x="1200" y="144"/>
                </a:lnTo>
                <a:lnTo>
                  <a:pt x="1104" y="96"/>
                </a:lnTo>
                <a:lnTo>
                  <a:pt x="960" y="288"/>
                </a:lnTo>
                <a:lnTo>
                  <a:pt x="816" y="384"/>
                </a:lnTo>
                <a:lnTo>
                  <a:pt x="960" y="96"/>
                </a:lnTo>
                <a:lnTo>
                  <a:pt x="960" y="0"/>
                </a:lnTo>
                <a:lnTo>
                  <a:pt x="864" y="48"/>
                </a:lnTo>
                <a:lnTo>
                  <a:pt x="816" y="96"/>
                </a:lnTo>
                <a:lnTo>
                  <a:pt x="672" y="336"/>
                </a:lnTo>
                <a:lnTo>
                  <a:pt x="624" y="432"/>
                </a:lnTo>
                <a:lnTo>
                  <a:pt x="576" y="384"/>
                </a:lnTo>
                <a:lnTo>
                  <a:pt x="528" y="288"/>
                </a:lnTo>
                <a:lnTo>
                  <a:pt x="480" y="288"/>
                </a:lnTo>
                <a:lnTo>
                  <a:pt x="384" y="288"/>
                </a:lnTo>
                <a:lnTo>
                  <a:pt x="336" y="336"/>
                </a:lnTo>
                <a:lnTo>
                  <a:pt x="288" y="432"/>
                </a:lnTo>
                <a:lnTo>
                  <a:pt x="288" y="480"/>
                </a:lnTo>
                <a:lnTo>
                  <a:pt x="144" y="480"/>
                </a:lnTo>
                <a:lnTo>
                  <a:pt x="96" y="528"/>
                </a:lnTo>
                <a:lnTo>
                  <a:pt x="192" y="528"/>
                </a:lnTo>
                <a:lnTo>
                  <a:pt x="288" y="576"/>
                </a:lnTo>
                <a:lnTo>
                  <a:pt x="576" y="528"/>
                </a:lnTo>
                <a:lnTo>
                  <a:pt x="624" y="576"/>
                </a:lnTo>
                <a:lnTo>
                  <a:pt x="576" y="672"/>
                </a:lnTo>
                <a:lnTo>
                  <a:pt x="528" y="768"/>
                </a:lnTo>
                <a:lnTo>
                  <a:pt x="480" y="864"/>
                </a:lnTo>
                <a:lnTo>
                  <a:pt x="480" y="912"/>
                </a:lnTo>
                <a:lnTo>
                  <a:pt x="432" y="1008"/>
                </a:lnTo>
                <a:lnTo>
                  <a:pt x="336" y="1008"/>
                </a:lnTo>
                <a:lnTo>
                  <a:pt x="192" y="912"/>
                </a:lnTo>
                <a:lnTo>
                  <a:pt x="144" y="864"/>
                </a:lnTo>
                <a:lnTo>
                  <a:pt x="48" y="864"/>
                </a:lnTo>
                <a:lnTo>
                  <a:pt x="0" y="912"/>
                </a:lnTo>
                <a:lnTo>
                  <a:pt x="48" y="912"/>
                </a:lnTo>
                <a:lnTo>
                  <a:pt x="144" y="960"/>
                </a:lnTo>
                <a:lnTo>
                  <a:pt x="240" y="1008"/>
                </a:lnTo>
                <a:lnTo>
                  <a:pt x="384" y="1056"/>
                </a:lnTo>
                <a:lnTo>
                  <a:pt x="432" y="1056"/>
                </a:lnTo>
                <a:lnTo>
                  <a:pt x="384" y="1152"/>
                </a:lnTo>
                <a:lnTo>
                  <a:pt x="192" y="1440"/>
                </a:lnTo>
                <a:lnTo>
                  <a:pt x="192" y="1488"/>
                </a:lnTo>
                <a:lnTo>
                  <a:pt x="288" y="14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675480" y="1204920"/>
            <a:ext cx="31366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le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8360" y="3262320"/>
          <a:ext cx="978372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3262320"/>
                    <a:ext cx="97837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618080" y="497664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0160" y="31860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7760" y="337644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4481640"/>
            <a:ext cx="1646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680" y="436716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4520" y="3795840"/>
            <a:ext cx="26676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31920" y="3567240"/>
            <a:ext cx="30492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809200" y="4862160"/>
            <a:ext cx="457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51200" y="4404960"/>
            <a:ext cx="3045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840" y="3338640"/>
          <a:ext cx="9783720" cy="26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40" y="3338640"/>
                    <a:ext cx="9783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89480" y="3338640"/>
            <a:ext cx="2057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27960" y="402444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360" y="43290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786200"/>
            <a:ext cx="187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84560" y="47862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9113400" y="448164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9600" y="4862520"/>
            <a:ext cx="53316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589880" y="44816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03320" y="379584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5240" y="3290760"/>
          <a:ext cx="982188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240" y="3290760"/>
                    <a:ext cx="98218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036800" y="4176720"/>
            <a:ext cx="2514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51600" y="5167440"/>
            <a:ext cx="2765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32680" y="29574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 Mountains Er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89280" y="4329000"/>
            <a:ext cx="25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 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080" y="493884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0480" y="51674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Y 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1560" y="539604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OR PL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3000" y="5776920"/>
            <a:ext cx="226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IAN SH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04080" y="4633920"/>
            <a:ext cx="301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ALACHIAN 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32880" y="5243400"/>
            <a:ext cx="141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399440" y="4138560"/>
            <a:ext cx="25056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37800" y="4253040"/>
            <a:ext cx="25056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32080" y="3871440"/>
            <a:ext cx="32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65400" y="1509840"/>
            <a:ext cx="7696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89080" y="1204920"/>
            <a:ext cx="77468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1000" y="1585800"/>
            <a:ext cx="9372600" cy="499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45080" y="687384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79800" y="11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TINENT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cp:keywords/>
  <dc:language>en-US</dc:language>
  <cp:lastModifiedBy>OCDSB User</cp:lastModifiedBy>
  <dcterms:modified xsi:type="dcterms:W3CDTF">2011-02-11T16:56:44Z</dcterms:modified>
  <cp:revision>1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